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8B0-4213-40E8-BC8F-E07906AF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9E61-13BC-4C66-9BFB-34BB5261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A67-6F8B-4A94-BF44-70274016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ECA-D423-46E8-9A36-7F7CCA1D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E25-BE45-4C62-AD48-1FD91D1C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8A5-97D9-4DC8-A532-4496574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77B-B41C-492A-A884-83FE1B93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1BFE-7A05-47DC-B945-D7537124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32DD-FA1C-4958-908B-2B2C8EA5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D7F-9DC6-443F-A976-24959A9C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355C-B30C-4A3F-8ED2-75B10A8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9C4-751D-45E5-8B02-4E66C44C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9FC2-3BF9-4337-A6DD-20819315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3:02:25Z</dcterms:created>
  <dc:creator>backup</dc:creator>
  <dc:description/>
  <dc:language>en-US</dc:language>
  <cp:lastModifiedBy>backup</cp:lastModifiedBy>
  <dcterms:modified xsi:type="dcterms:W3CDTF">2009-03-01T13:03:20Z</dcterms:modified>
  <cp:revision>1</cp:revision>
  <dc:subject/>
  <dc:title>Slide 1</dc:title>
</cp:coreProperties>
</file>